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8CDF-2D57-4499-BF98-40F8F68D7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50F7-2365-4AA8-88CC-8381B4719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38E6-BC1F-4937-925E-9DFE265D8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731D-90F4-4219-B31E-9DF4F3253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2C6C-FC27-49F4-8845-9204E7AE7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81AE-DB34-49A3-AFB4-FDC80AF26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C597-56DF-4B35-81F9-8A49E0322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622C-870C-4ED0-8FE1-C3FAFDB34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58EC-04AD-4D22-822F-EF7093922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D209-1F04-43FC-9116-F0E3AE8C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247B-BA41-4293-85E8-8221D632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7017-35F3-43A1-95C9-40C9F1D1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1F412-5250-4184-ABFA-0F6F20C48878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C:/Users/USUARIO/Desktop/CURSO1314/EOEP-SEDE/FORMACI&#211;N_DSMV/DSM-V.ppt" TargetMode="External"/><Relationship Id="rId2" Type="http://schemas.openxmlformats.org/officeDocument/2006/relationships/slide" Target="slide3.xml"/><Relationship Id="rId3" Type="http://schemas.openxmlformats.org/officeDocument/2006/relationships/image" Target="../media/image1.png"/><Relationship Id="rId4" Type="http://schemas.openxmlformats.org/officeDocument/2006/relationships/slide" Target="slide4.xml"/><Relationship Id="rId5" Type="http://schemas.openxmlformats.org/officeDocument/2006/relationships/image" Target="../media/image2.png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slide" Target="slide2.xml"/><Relationship Id="rId10" Type="http://schemas.openxmlformats.org/officeDocument/2006/relationships/image" Target="../media/image5.png"/><Relationship Id="rId11" Type="http://schemas.openxmlformats.org/officeDocument/2006/relationships/slide" Target="slide6.xml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" Target="slide1.xml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image" Target="../media/image11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4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4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4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FFC8E-6D4B-4B3B-B4DB-71050C14640F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8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15 Rectángulo redondeado"/>
          <p:cNvGrpSpPr/>
          <p:nvPr/>
        </p:nvGrpSpPr>
        <p:grpSpPr>
          <a:xfrm>
            <a:off x="2011320" y="2676600"/>
            <a:ext cx="4541760" cy="682560"/>
            <a:chOff x="2011320" y="2676600"/>
            <a:chExt cx="4541760" cy="682560"/>
          </a:xfrm>
        </p:grpSpPr>
        <p:pic>
          <p:nvPicPr>
            <p:cNvPr id="45" name="15 Rectángulo redondeado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2011320" y="2676600"/>
              <a:ext cx="45417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100240" y="2743200"/>
              <a:ext cx="43718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Modelo alternativo del DSM-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17 Rectángulo redondeado"/>
          <p:cNvGrpSpPr/>
          <p:nvPr/>
        </p:nvGrpSpPr>
        <p:grpSpPr>
          <a:xfrm>
            <a:off x="79200" y="4248000"/>
            <a:ext cx="4548240" cy="684360"/>
            <a:chOff x="79200" y="4248000"/>
            <a:chExt cx="4548240" cy="684360"/>
          </a:xfrm>
        </p:grpSpPr>
        <p:pic>
          <p:nvPicPr>
            <p:cNvPr id="48" name="17 Rectángulo redondeado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79200" y="4248000"/>
              <a:ext cx="4548240" cy="6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171360" y="4314960"/>
              <a:ext cx="437220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P: GRUPO 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19 Rectángulo redondeado"/>
          <p:cNvGrpSpPr/>
          <p:nvPr/>
        </p:nvGrpSpPr>
        <p:grpSpPr>
          <a:xfrm>
            <a:off x="1865160" y="4962600"/>
            <a:ext cx="4548240" cy="682560"/>
            <a:chOff x="1865160" y="4962600"/>
            <a:chExt cx="4548240" cy="682560"/>
          </a:xfrm>
        </p:grpSpPr>
        <p:pic>
          <p:nvPicPr>
            <p:cNvPr id="51" name="19 Rectángulo redondeado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1865160" y="4962600"/>
              <a:ext cx="454824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1957320" y="5029200"/>
              <a:ext cx="43722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P. GRUPO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22 Rectángulo redondeado"/>
          <p:cNvGrpSpPr/>
          <p:nvPr/>
        </p:nvGrpSpPr>
        <p:grpSpPr>
          <a:xfrm>
            <a:off x="225360" y="536400"/>
            <a:ext cx="5114880" cy="676440"/>
            <a:chOff x="225360" y="536400"/>
            <a:chExt cx="5114880" cy="676440"/>
          </a:xfrm>
        </p:grpSpPr>
        <p:pic>
          <p:nvPicPr>
            <p:cNvPr id="54" name="22 Rectángulo redondeado" descr=""/>
            <p:cNvPicPr/>
            <p:nvPr/>
          </p:nvPicPr>
          <p:blipFill>
            <a:blip r:embed="rId8"/>
            <a:stretch/>
          </p:blipFill>
          <p:spPr>
            <a:xfrm>
              <a:off x="225360" y="536400"/>
              <a:ext cx="511488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314280" y="600120"/>
              <a:ext cx="4943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la personalidad (TP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24 Rectángulo redondeado"/>
          <p:cNvGrpSpPr/>
          <p:nvPr/>
        </p:nvGrpSpPr>
        <p:grpSpPr>
          <a:xfrm>
            <a:off x="2011320" y="1889280"/>
            <a:ext cx="4541760" cy="682560"/>
            <a:chOff x="2011320" y="1889280"/>
            <a:chExt cx="4541760" cy="682560"/>
          </a:xfrm>
        </p:grpSpPr>
        <p:pic>
          <p:nvPicPr>
            <p:cNvPr id="57" name="24 Rectángulo redondeado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2011320" y="1889280"/>
              <a:ext cx="45417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2100240" y="1957320"/>
              <a:ext cx="43718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Principales cambios en 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14 Rectángulo redondeado"/>
          <p:cNvGrpSpPr/>
          <p:nvPr/>
        </p:nvGrpSpPr>
        <p:grpSpPr>
          <a:xfrm>
            <a:off x="4084560" y="5608800"/>
            <a:ext cx="4541760" cy="682560"/>
            <a:chOff x="4084560" y="5608800"/>
            <a:chExt cx="4541760" cy="682560"/>
          </a:xfrm>
        </p:grpSpPr>
        <p:pic>
          <p:nvPicPr>
            <p:cNvPr id="60" name="14 Rectángulo redondeado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4084560" y="5608800"/>
              <a:ext cx="45417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172040" y="5672160"/>
              <a:ext cx="43718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P. GRUPO 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E6DF3-B985-436F-8B69-FB1C0FE29D57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8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15 Rectángulo redondeado"/>
          <p:cNvGrpSpPr/>
          <p:nvPr/>
        </p:nvGrpSpPr>
        <p:grpSpPr>
          <a:xfrm>
            <a:off x="725400" y="2322360"/>
            <a:ext cx="8047080" cy="4035600"/>
            <a:chOff x="725400" y="2322360"/>
            <a:chExt cx="8047080" cy="4035600"/>
          </a:xfrm>
        </p:grpSpPr>
        <p:pic>
          <p:nvPicPr>
            <p:cNvPr id="66" name="15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2322360"/>
              <a:ext cx="8047080" cy="403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977760" y="2549520"/>
              <a:ext cx="7545600" cy="35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Aproximación alternativa al diagnóstico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Criterios generales para 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Elementos del funcionamiento de la personalidad como un continuo. Nivel de desajuste global actual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P- con rasgo específico (desajuste moderado de la personalidad y presencia de rasgos patológicos)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22 Rectángulo redondeado"/>
          <p:cNvGrpSpPr/>
          <p:nvPr/>
        </p:nvGrpSpPr>
        <p:grpSpPr>
          <a:xfrm>
            <a:off x="225360" y="536400"/>
            <a:ext cx="5114880" cy="676440"/>
            <a:chOff x="225360" y="536400"/>
            <a:chExt cx="5114880" cy="676440"/>
          </a:xfrm>
        </p:grpSpPr>
        <p:pic>
          <p:nvPicPr>
            <p:cNvPr id="69" name="22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225360" y="536400"/>
              <a:ext cx="511488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314280" y="600120"/>
              <a:ext cx="4943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la personalidad (TP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24 Rectángulo redondeado"/>
          <p:cNvGrpSpPr/>
          <p:nvPr/>
        </p:nvGrpSpPr>
        <p:grpSpPr>
          <a:xfrm>
            <a:off x="225360" y="1536840"/>
            <a:ext cx="4541760" cy="682560"/>
            <a:chOff x="225360" y="1536840"/>
            <a:chExt cx="4541760" cy="682560"/>
          </a:xfrm>
        </p:grpSpPr>
        <p:pic>
          <p:nvPicPr>
            <p:cNvPr id="72" name="24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225360" y="1536840"/>
              <a:ext cx="45417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14280" y="1600200"/>
              <a:ext cx="43722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Principales cambios en 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75" name="10 Flecha izquierda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9A433-A07F-4C3B-8E55-3910618B4FBB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8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15 Rectángulo redondeado"/>
          <p:cNvGrpSpPr/>
          <p:nvPr/>
        </p:nvGrpSpPr>
        <p:grpSpPr>
          <a:xfrm>
            <a:off x="512640" y="1676520"/>
            <a:ext cx="4540320" cy="682560"/>
            <a:chOff x="512640" y="1676520"/>
            <a:chExt cx="4540320" cy="682560"/>
          </a:xfrm>
        </p:grpSpPr>
        <p:pic>
          <p:nvPicPr>
            <p:cNvPr id="81" name="15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512640" y="1676520"/>
              <a:ext cx="454032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600120" y="1743120"/>
              <a:ext cx="43718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Modelo alternativo del DSM-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22 Rectángulo redondeado"/>
          <p:cNvGrpSpPr/>
          <p:nvPr/>
        </p:nvGrpSpPr>
        <p:grpSpPr>
          <a:xfrm>
            <a:off x="225360" y="536400"/>
            <a:ext cx="5114880" cy="676440"/>
            <a:chOff x="225360" y="536400"/>
            <a:chExt cx="5114880" cy="676440"/>
          </a:xfrm>
        </p:grpSpPr>
        <p:pic>
          <p:nvPicPr>
            <p:cNvPr id="84" name="22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225360" y="536400"/>
              <a:ext cx="511488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314280" y="600120"/>
              <a:ext cx="4943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la personalidad (TP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14 Rectángulo redondeado"/>
          <p:cNvGrpSpPr/>
          <p:nvPr/>
        </p:nvGrpSpPr>
        <p:grpSpPr>
          <a:xfrm>
            <a:off x="512640" y="2535120"/>
            <a:ext cx="8113680" cy="3756240"/>
            <a:chOff x="512640" y="2535120"/>
            <a:chExt cx="8113680" cy="3756240"/>
          </a:xfrm>
        </p:grpSpPr>
        <p:pic>
          <p:nvPicPr>
            <p:cNvPr id="87" name="14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512640" y="2535120"/>
              <a:ext cx="8113680" cy="375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749160" y="2749680"/>
              <a:ext cx="7645680" cy="32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Criterios generales TP (7 criterios de desajuste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Elementos del funcionamiento de la personalidad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Del yo: identidad y auto-direc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Interpersonal: empatía e intimidad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Calibri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Evaluación de los rasgos patológicos: afectividad negativa, distanciamiento, antagonismo, desinhibición, psicoticismo. Otros 25 específico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90" name="10 Flecha izquierda" descr=""/>
            <p:cNvPicPr/>
            <p:nvPr/>
          </p:nvPicPr>
          <p:blipFill>
            <a:blip r:embed="rId4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FBAF4-EC25-4804-AEF0-B4A96751AE81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8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17 Rectángulo redondeado"/>
          <p:cNvGrpSpPr/>
          <p:nvPr/>
        </p:nvGrpSpPr>
        <p:grpSpPr>
          <a:xfrm>
            <a:off x="225360" y="1609560"/>
            <a:ext cx="4541760" cy="676440"/>
            <a:chOff x="225360" y="1609560"/>
            <a:chExt cx="4541760" cy="676440"/>
          </a:xfrm>
        </p:grpSpPr>
        <p:pic>
          <p:nvPicPr>
            <p:cNvPr id="96" name="17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225360" y="1609560"/>
              <a:ext cx="454176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314280" y="1671480"/>
              <a:ext cx="43722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P: GRUPO 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19 Rectángulo redondeado"/>
          <p:cNvGrpSpPr/>
          <p:nvPr/>
        </p:nvGrpSpPr>
        <p:grpSpPr>
          <a:xfrm>
            <a:off x="798480" y="2462040"/>
            <a:ext cx="4541760" cy="682920"/>
            <a:chOff x="798480" y="2462040"/>
            <a:chExt cx="4541760" cy="682920"/>
          </a:xfrm>
        </p:grpSpPr>
        <p:pic>
          <p:nvPicPr>
            <p:cNvPr id="99" name="19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798480" y="2462040"/>
              <a:ext cx="4541760" cy="6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885960" y="2529000"/>
              <a:ext cx="437184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P. Paranoid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22 Rectángulo redondeado"/>
          <p:cNvGrpSpPr/>
          <p:nvPr/>
        </p:nvGrpSpPr>
        <p:grpSpPr>
          <a:xfrm>
            <a:off x="225360" y="536400"/>
            <a:ext cx="5114880" cy="676440"/>
            <a:chOff x="225360" y="536400"/>
            <a:chExt cx="5114880" cy="676440"/>
          </a:xfrm>
        </p:grpSpPr>
        <p:pic>
          <p:nvPicPr>
            <p:cNvPr id="102" name="22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225360" y="536400"/>
              <a:ext cx="511488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314280" y="600120"/>
              <a:ext cx="4943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la personalidad (TP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14 Rectángulo redondeado"/>
          <p:cNvGrpSpPr/>
          <p:nvPr/>
        </p:nvGrpSpPr>
        <p:grpSpPr>
          <a:xfrm>
            <a:off x="798480" y="3249720"/>
            <a:ext cx="4541760" cy="682560"/>
            <a:chOff x="798480" y="3249720"/>
            <a:chExt cx="4541760" cy="682560"/>
          </a:xfrm>
        </p:grpSpPr>
        <p:pic>
          <p:nvPicPr>
            <p:cNvPr id="105" name="14 Rectángulo redondeado" descr=""/>
            <p:cNvPicPr/>
            <p:nvPr/>
          </p:nvPicPr>
          <p:blipFill>
            <a:blip r:embed="rId4"/>
            <a:stretch/>
          </p:blipFill>
          <p:spPr>
            <a:xfrm>
              <a:off x="798480" y="3249720"/>
              <a:ext cx="45417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885960" y="3314880"/>
              <a:ext cx="437184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P. Esquizoid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10 Rectángulo redondeado"/>
          <p:cNvGrpSpPr/>
          <p:nvPr/>
        </p:nvGrpSpPr>
        <p:grpSpPr>
          <a:xfrm>
            <a:off x="798480" y="4035600"/>
            <a:ext cx="4541760" cy="682560"/>
            <a:chOff x="798480" y="4035600"/>
            <a:chExt cx="4541760" cy="682560"/>
          </a:xfrm>
        </p:grpSpPr>
        <p:pic>
          <p:nvPicPr>
            <p:cNvPr id="108" name="10 Rectángulo redondeado" descr=""/>
            <p:cNvPicPr/>
            <p:nvPr/>
          </p:nvPicPr>
          <p:blipFill>
            <a:blip r:embed="rId5"/>
            <a:stretch/>
          </p:blipFill>
          <p:spPr>
            <a:xfrm>
              <a:off x="798480" y="4035600"/>
              <a:ext cx="45417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885960" y="4100400"/>
              <a:ext cx="43718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P. Esquizotípic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11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11" name="11 Flecha izquierda" descr=""/>
            <p:cNvPicPr/>
            <p:nvPr/>
          </p:nvPicPr>
          <p:blipFill>
            <a:blip r:embed="rId6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2E0E4-E00D-4CE8-A640-BBAB98DED29E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8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17 Rectángulo redondeado"/>
          <p:cNvGrpSpPr/>
          <p:nvPr/>
        </p:nvGrpSpPr>
        <p:grpSpPr>
          <a:xfrm>
            <a:off x="225360" y="1609560"/>
            <a:ext cx="4541760" cy="676440"/>
            <a:chOff x="225360" y="1609560"/>
            <a:chExt cx="4541760" cy="676440"/>
          </a:xfrm>
        </p:grpSpPr>
        <p:pic>
          <p:nvPicPr>
            <p:cNvPr id="117" name="17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225360" y="1609560"/>
              <a:ext cx="454176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314280" y="1671480"/>
              <a:ext cx="43722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P: GRUPO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19 Rectángulo redondeado"/>
          <p:cNvGrpSpPr/>
          <p:nvPr/>
        </p:nvGrpSpPr>
        <p:grpSpPr>
          <a:xfrm>
            <a:off x="798480" y="2462040"/>
            <a:ext cx="4541760" cy="682920"/>
            <a:chOff x="798480" y="2462040"/>
            <a:chExt cx="4541760" cy="682920"/>
          </a:xfrm>
        </p:grpSpPr>
        <p:pic>
          <p:nvPicPr>
            <p:cNvPr id="120" name="19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798480" y="2462040"/>
              <a:ext cx="4541760" cy="6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885960" y="2529000"/>
              <a:ext cx="437184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P. ANTISOCI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22 Rectángulo redondeado"/>
          <p:cNvGrpSpPr/>
          <p:nvPr/>
        </p:nvGrpSpPr>
        <p:grpSpPr>
          <a:xfrm>
            <a:off x="225360" y="536400"/>
            <a:ext cx="5114880" cy="676440"/>
            <a:chOff x="225360" y="536400"/>
            <a:chExt cx="5114880" cy="676440"/>
          </a:xfrm>
        </p:grpSpPr>
        <p:pic>
          <p:nvPicPr>
            <p:cNvPr id="123" name="22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225360" y="536400"/>
              <a:ext cx="511488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314280" y="600120"/>
              <a:ext cx="4943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la personalidad (TP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14 Rectángulo redondeado"/>
          <p:cNvGrpSpPr/>
          <p:nvPr/>
        </p:nvGrpSpPr>
        <p:grpSpPr>
          <a:xfrm>
            <a:off x="798480" y="3249720"/>
            <a:ext cx="4541760" cy="682560"/>
            <a:chOff x="798480" y="3249720"/>
            <a:chExt cx="4541760" cy="682560"/>
          </a:xfrm>
        </p:grpSpPr>
        <p:pic>
          <p:nvPicPr>
            <p:cNvPr id="126" name="14 Rectángulo redondeado" descr=""/>
            <p:cNvPicPr/>
            <p:nvPr/>
          </p:nvPicPr>
          <p:blipFill>
            <a:blip r:embed="rId4"/>
            <a:stretch/>
          </p:blipFill>
          <p:spPr>
            <a:xfrm>
              <a:off x="798480" y="3249720"/>
              <a:ext cx="45417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885960" y="3314880"/>
              <a:ext cx="437184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P. LIMIT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10 Rectángulo redondeado"/>
          <p:cNvGrpSpPr/>
          <p:nvPr/>
        </p:nvGrpSpPr>
        <p:grpSpPr>
          <a:xfrm>
            <a:off x="798480" y="4035600"/>
            <a:ext cx="4541760" cy="682560"/>
            <a:chOff x="798480" y="4035600"/>
            <a:chExt cx="4541760" cy="682560"/>
          </a:xfrm>
        </p:grpSpPr>
        <p:pic>
          <p:nvPicPr>
            <p:cNvPr id="129" name="10 Rectángulo redondeado" descr=""/>
            <p:cNvPicPr/>
            <p:nvPr/>
          </p:nvPicPr>
          <p:blipFill>
            <a:blip r:embed="rId5"/>
            <a:stretch/>
          </p:blipFill>
          <p:spPr>
            <a:xfrm>
              <a:off x="798480" y="4035600"/>
              <a:ext cx="45417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885960" y="4100400"/>
              <a:ext cx="43718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P. HISTRIONI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9 Rectángulo redondeado"/>
          <p:cNvGrpSpPr/>
          <p:nvPr/>
        </p:nvGrpSpPr>
        <p:grpSpPr>
          <a:xfrm>
            <a:off x="798480" y="4748040"/>
            <a:ext cx="4541760" cy="682920"/>
            <a:chOff x="798480" y="4748040"/>
            <a:chExt cx="4541760" cy="682920"/>
          </a:xfrm>
        </p:grpSpPr>
        <p:pic>
          <p:nvPicPr>
            <p:cNvPr id="132" name="9 Rectángulo redondeado" descr=""/>
            <p:cNvPicPr/>
            <p:nvPr/>
          </p:nvPicPr>
          <p:blipFill>
            <a:blip r:embed="rId6"/>
            <a:stretch/>
          </p:blipFill>
          <p:spPr>
            <a:xfrm>
              <a:off x="798480" y="4748040"/>
              <a:ext cx="4541760" cy="6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885960" y="4815000"/>
              <a:ext cx="437184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P. NARCISIS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11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35" name="11 Flecha izquierda" descr=""/>
            <p:cNvPicPr/>
            <p:nvPr/>
          </p:nvPicPr>
          <p:blipFill>
            <a:blip r:embed="rId7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1E601-6D0A-4130-896F-B5BC6ED1488E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8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17 Rectángulo redondeado"/>
          <p:cNvGrpSpPr/>
          <p:nvPr/>
        </p:nvGrpSpPr>
        <p:grpSpPr>
          <a:xfrm>
            <a:off x="225360" y="1609560"/>
            <a:ext cx="4541760" cy="676440"/>
            <a:chOff x="225360" y="1609560"/>
            <a:chExt cx="4541760" cy="676440"/>
          </a:xfrm>
        </p:grpSpPr>
        <p:pic>
          <p:nvPicPr>
            <p:cNvPr id="141" name="17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225360" y="1609560"/>
              <a:ext cx="454176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314280" y="1671480"/>
              <a:ext cx="43722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P: GRUPO 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19 Rectángulo redondeado"/>
          <p:cNvGrpSpPr/>
          <p:nvPr/>
        </p:nvGrpSpPr>
        <p:grpSpPr>
          <a:xfrm>
            <a:off x="798480" y="2462040"/>
            <a:ext cx="4541760" cy="682920"/>
            <a:chOff x="798480" y="2462040"/>
            <a:chExt cx="4541760" cy="682920"/>
          </a:xfrm>
        </p:grpSpPr>
        <p:pic>
          <p:nvPicPr>
            <p:cNvPr id="144" name="19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798480" y="2462040"/>
              <a:ext cx="4541760" cy="6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885960" y="2529000"/>
              <a:ext cx="437184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P. EVASI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22 Rectángulo redondeado"/>
          <p:cNvGrpSpPr/>
          <p:nvPr/>
        </p:nvGrpSpPr>
        <p:grpSpPr>
          <a:xfrm>
            <a:off x="225360" y="536400"/>
            <a:ext cx="5114880" cy="676440"/>
            <a:chOff x="225360" y="536400"/>
            <a:chExt cx="5114880" cy="676440"/>
          </a:xfrm>
        </p:grpSpPr>
        <p:pic>
          <p:nvPicPr>
            <p:cNvPr id="147" name="22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225360" y="536400"/>
              <a:ext cx="511488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314280" y="600120"/>
              <a:ext cx="49435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la personalidad (TP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14 Rectángulo redondeado"/>
          <p:cNvGrpSpPr/>
          <p:nvPr/>
        </p:nvGrpSpPr>
        <p:grpSpPr>
          <a:xfrm>
            <a:off x="798480" y="3249720"/>
            <a:ext cx="4541760" cy="682560"/>
            <a:chOff x="798480" y="3249720"/>
            <a:chExt cx="4541760" cy="682560"/>
          </a:xfrm>
        </p:grpSpPr>
        <p:pic>
          <p:nvPicPr>
            <p:cNvPr id="150" name="14 Rectángulo redondeado" descr=""/>
            <p:cNvPicPr/>
            <p:nvPr/>
          </p:nvPicPr>
          <p:blipFill>
            <a:blip r:embed="rId4"/>
            <a:stretch/>
          </p:blipFill>
          <p:spPr>
            <a:xfrm>
              <a:off x="798480" y="3249720"/>
              <a:ext cx="45417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885960" y="3314880"/>
              <a:ext cx="437184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P. DEPENDIENT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10 Rectángulo redondeado"/>
          <p:cNvGrpSpPr/>
          <p:nvPr/>
        </p:nvGrpSpPr>
        <p:grpSpPr>
          <a:xfrm>
            <a:off x="798480" y="4035600"/>
            <a:ext cx="4541760" cy="682560"/>
            <a:chOff x="798480" y="4035600"/>
            <a:chExt cx="4541760" cy="682560"/>
          </a:xfrm>
        </p:grpSpPr>
        <p:pic>
          <p:nvPicPr>
            <p:cNvPr id="153" name="10 Rectángulo redondeado" descr=""/>
            <p:cNvPicPr/>
            <p:nvPr/>
          </p:nvPicPr>
          <p:blipFill>
            <a:blip r:embed="rId5"/>
            <a:stretch/>
          </p:blipFill>
          <p:spPr>
            <a:xfrm>
              <a:off x="798480" y="4035600"/>
              <a:ext cx="45417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885960" y="4100400"/>
              <a:ext cx="43718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P. OBSESIVO-COMPULSI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11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56" name="11 Flecha izquierda" descr=""/>
            <p:cNvPicPr/>
            <p:nvPr/>
          </p:nvPicPr>
          <p:blipFill>
            <a:blip r:embed="rId6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1T23:42:51Z</dcterms:created>
  <dc:creator>USUARIO</dc:creator>
  <dc:description/>
  <dc:language>en-US</dc:language>
  <cp:lastModifiedBy>USUARIO</cp:lastModifiedBy>
  <dcterms:modified xsi:type="dcterms:W3CDTF">2014-06-02T00:00:41Z</dcterms:modified>
  <cp:revision>6</cp:revision>
  <dc:subject/>
  <dc:title>DSM-V</dc:title>
</cp:coreProperties>
</file>